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2B4-54BB-494A-AB56-9DDB027C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220-CF26-42E5-8A03-A64BFE08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CDA-54E0-4680-852E-803986EF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286-5E22-4CEA-B60A-B2D1FD03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203-5F7C-4D12-98C2-46BB05A2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1506-7306-4A0C-B522-6EE77E1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12B-328D-4FC9-8A93-35766C6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590C-25FE-4678-A012-1B8B3F5D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518-073B-4272-AEB3-428B3C81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D76-5F4A-4F2E-8F3B-17C73207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248-E816-48AA-9038-9D354D0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314-360A-4813-942D-576B40DF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3B6-B408-45FF-A483-3E03BEE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B0A2-866D-49E7-93B3-DE8F27C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E32F-846D-4546-A101-9EF60839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B8C-ACFF-4850-B6F7-6A9C112F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C98F-CC52-462F-9367-253312F6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5AF8-EE65-496F-B678-5F4586A5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3814-3F43-4EC9-8219-59D45F5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B6E7-74AF-4876-8FEA-1208125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265F-9571-441F-9AAB-D790DA6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C953-EAE6-44AA-861B-033D491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9C0-ABF4-4BE0-BB04-32232D26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2513-FBB0-442D-B1CB-FCDA126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7124-7713-412D-92A0-0653F80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8E07-CF40-426E-845E-C39BE74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ADD0-6E48-454B-ABE6-B83B299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F47C-67B7-490C-93A1-EC6B0DEE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FD0F-47D7-4C72-AA89-9C11A75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BB96-8CDD-4871-9441-AC461662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A284-9CA8-42C1-961E-6FA0E599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F2BF-EB7E-49EC-8631-1B7B060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5E2A-84C7-4CBE-9047-E176F19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CE8-D29E-4BBB-93ED-63DFFA5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D5BE-7F95-4FF3-818A-11D565B3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7995-0A9B-4CB5-9985-E6F00917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2A64-7BF9-4983-8DA8-240E678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99E1A-EEA7-48B2-9A4E-5B2B464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D133-FCDA-47BB-9FEA-870351B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B04A-4719-4712-80C5-9767957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8378-AF6A-4253-9969-8D0CDAB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347C-6E9C-4D52-AE8F-95CF4A57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B8CB-DFDE-4432-8569-2336E4B7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53D-CE56-48A8-8D54-D59EEAF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FB0-9795-44D7-B607-FB4801A9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F8E-D665-4CAB-A58E-5AA6706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3DA-1C03-4463-BEB3-C533791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FFA-BE6F-464A-9FCA-10405B7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8F3-A76B-496C-9056-7E02B4756D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5C43-0467-44AD-971B-5DF44A28FA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C2C2-96B4-4944-97FE-56758C6086F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A9D-332B-4FD8-A79B-15184B96AB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физика объясняет факты из повседневной жиз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всего бегать на дорожках на стадионе потому что бег по таким дорожкам наилучшим способом адаптирует и тренирует бегуна к профессиональному бе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 же по другим видам дорожек лишь способствует поддержке физической формы и здоровья в целом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тому что бег сильно изматывает организм               бег сильно сжигает калор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Admin\Мои документы\Мои рисунки\tired-runner-400x342.jpg"/>
          <p:cNvPicPr/>
          <p:nvPr/>
        </p:nvPicPr>
        <p:blipFill>
          <a:blip r:embed="rId1"/>
          <a:stretch/>
        </p:blipFill>
        <p:spPr>
          <a:xfrm>
            <a:off x="1857240" y="4643280"/>
            <a:ext cx="1357560" cy="11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Admin\Мои документы\Мои рисунки\LinfordChristie2.jpg"/>
          <p:cNvPicPr/>
          <p:nvPr/>
        </p:nvPicPr>
        <p:blipFill>
          <a:blip r:embed="rId2"/>
          <a:stretch/>
        </p:blipFill>
        <p:spPr>
          <a:xfrm>
            <a:off x="5857920" y="4643280"/>
            <a:ext cx="1035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 правильный во всех 2-х гипотезах, описанных выш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28760" y="57168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просы, на которые мы будем искать ответы самостоятель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может помешать бегуну в бег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ый ли бегун становится призёро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омощью чего люди могут беж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заставляет профессионального спортсмена стремится к лидерств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нужно чтобы прибежать первы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далёк путь к пьедесталу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уроках физики мы учим теории и законы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иногда кажется, что эти знания не имеют никакого отношения к нашей жизни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вайте попробуем объяснить некоторые общеизвестные факты знаниями из физ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для примера возьмем людей, которые увлекаются спортом. А именно бег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ы на которые будем искать 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чему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осовки                Кеды                    бут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Admin\Мои документы\Мои рисунки\AirmaxBWJPG.jpg"/>
          <p:cNvPicPr/>
          <p:nvPr/>
        </p:nvPicPr>
        <p:blipFill>
          <a:blip r:embed="rId1"/>
          <a:stretch/>
        </p:blipFill>
        <p:spPr>
          <a:xfrm>
            <a:off x="428760" y="4000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Admin\Мои документы\Мои рисунки\205_1.jpg"/>
          <p:cNvPicPr/>
          <p:nvPr/>
        </p:nvPicPr>
        <p:blipFill>
          <a:blip r:embed="rId2"/>
          <a:stretch/>
        </p:blipFill>
        <p:spPr>
          <a:xfrm>
            <a:off x="3286080" y="4143240"/>
            <a:ext cx="1428840" cy="137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Admin\Мои документы\Мои рисунки\42268862_1.jpg"/>
          <p:cNvPicPr/>
          <p:nvPr/>
        </p:nvPicPr>
        <p:blipFill>
          <a:blip r:embed="rId3"/>
          <a:stretch/>
        </p:blipFill>
        <p:spPr>
          <a:xfrm>
            <a:off x="5429160" y="4357800"/>
            <a:ext cx="24861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вет правильный во всех 3-х гипотезах, описанных вы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 бегун бежит с ускорени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, бегун бежит равномер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, бегун бежит равнозамедлен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пытаемся определить, какой раздел физики мог бы помочь нам ответить на вопрос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прос – про движение тела с ускорение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дел физики, изучающий данное движение называется </a:t>
            </a:r>
            <a:r>
              <a:rPr b="0" lang="ru-RU" sz="2400" spc="-1" strike="noStrike">
                <a:solidFill>
                  <a:srgbClr val="009dd9"/>
                </a:solidFill>
                <a:latin typeface="Constantia"/>
              </a:rPr>
              <a:t>Кинемати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Documents and Settings\Admin\Мои документы\Мои рисунки\moveint.jpg"/>
          <p:cNvPicPr/>
          <p:nvPr/>
        </p:nvPicPr>
        <p:blipFill>
          <a:blip r:embed="rId1"/>
          <a:stretch/>
        </p:blipFill>
        <p:spPr>
          <a:xfrm>
            <a:off x="4929120" y="3714840"/>
            <a:ext cx="25005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br>
              <a:rPr sz="45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чему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еговая дорожка на стадионе          беговая дорожка в парке             беговая  дорожка дом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Documents and Settings\Admin\Мои документы\Мои рисунки\i.jpeg"/>
          <p:cNvPicPr/>
          <p:nvPr/>
        </p:nvPicPr>
        <p:blipFill>
          <a:blip r:embed="rId1"/>
          <a:stretch/>
        </p:blipFill>
        <p:spPr>
          <a:xfrm>
            <a:off x="1214280" y="4643280"/>
            <a:ext cx="162252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Admin\Мои документы\Мои рисунки\airportrdwk.jpg"/>
          <p:cNvPicPr/>
          <p:nvPr/>
        </p:nvPicPr>
        <p:blipFill>
          <a:blip r:embed="rId2"/>
          <a:stretch/>
        </p:blipFill>
        <p:spPr>
          <a:xfrm>
            <a:off x="3786120" y="464328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Admin\Мои документы\Мои рисунки\i.jpeg"/>
          <p:cNvPicPr/>
          <p:nvPr/>
        </p:nvPicPr>
        <p:blipFill>
          <a:blip r:embed="rId3"/>
          <a:stretch/>
        </p:blipFill>
        <p:spPr>
          <a:xfrm>
            <a:off x="6357960" y="4572000"/>
            <a:ext cx="1214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0:55:50Z</dcterms:created>
  <dc:creator>26087</dc:creator>
  <dc:description/>
  <dc:language>en-US</dc:language>
  <cp:lastModifiedBy>Hunter0k</cp:lastModifiedBy>
  <dcterms:modified xsi:type="dcterms:W3CDTF">2010-06-07T16:49:53Z</dcterms:modified>
  <cp:revision>56</cp:revision>
  <dc:subject/>
  <dc:title>Физика в спорте</dc:title>
</cp:coreProperties>
</file>